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11.png" ContentType="image/pn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6B3B-DF2B-41BB-A30C-DE3774391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4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64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626B-68CD-45AA-864A-ED8AAC04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520" y="419220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0D38-416D-4E28-A9F0-E3CC62C9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198072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6400" y="198072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19220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6400" y="419220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37C5-28C8-4D3D-ABB8-EFFE7483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448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B97A-AE4C-4535-8054-78D62733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44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3BFD-CFE4-44F2-A50E-ACA68D38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3CAF-F687-4443-8591-1B9E8728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B207-3A73-45EB-97D7-C3F81B26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4480" cy="66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261D-A55E-43B0-8A11-0607B2E9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59E8-CFC7-41B7-AA5C-703B773F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520" y="419220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F132-1526-4672-AD45-9C1D011F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64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E05F-765E-409C-826D-3C14CB08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44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4A773-33C3-48E5-AA44-9F5BA173F3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1828800"/>
            <a:ext cx="4647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AISM Worksh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Floating a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81480" y="60958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hort draft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2"/>
          <a:stretch/>
        </p:blipFill>
        <p:spPr>
          <a:xfrm>
            <a:off x="3962520" y="5334120"/>
            <a:ext cx="1110960" cy="1218960"/>
          </a:xfrm>
          <a:prstGeom prst="rect">
            <a:avLst/>
          </a:prstGeom>
          <a:ln w="0">
            <a:noFill/>
          </a:ln>
        </p:spPr>
      </p:pic>
      <p:pic>
        <p:nvPicPr>
          <p:cNvPr id="44" name="logo_cetmef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93960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zone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5616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057400" y="2590920"/>
            <a:ext cx="53352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2057400"/>
            <a:ext cx="53352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85800" y="1981080"/>
            <a:ext cx="1295280" cy="914400"/>
            <a:chOff x="685800" y="1981080"/>
            <a:chExt cx="1295280" cy="914400"/>
          </a:xfrm>
        </p:grpSpPr>
        <p:sp>
          <p:nvSpPr>
            <p:cNvPr id="63" name=""/>
            <p:cNvSpPr/>
            <p:nvPr/>
          </p:nvSpPr>
          <p:spPr>
            <a:xfrm>
              <a:off x="1752480" y="1981080"/>
              <a:ext cx="228600" cy="2286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" y="2438280"/>
              <a:ext cx="228600" cy="2286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38080" y="2666880"/>
              <a:ext cx="228600" cy="2286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276720" y="6248520"/>
            <a:ext cx="36576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rest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2880" y="6019920"/>
            <a:ext cx="143964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rtholittorale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subdi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4970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-3240" y="5334120"/>
            <a:ext cx="189072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HOM/ contrat E65/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5638680"/>
            <a:ext cx="28350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rest: por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2438280"/>
            <a:ext cx="1600200" cy="160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343400" y="3429000"/>
            <a:ext cx="1447920" cy="990720"/>
            <a:chOff x="4343400" y="3429000"/>
            <a:chExt cx="1447920" cy="990720"/>
          </a:xfrm>
        </p:grpSpPr>
        <p:sp>
          <p:nvSpPr>
            <p:cNvPr id="73" name=""/>
            <p:cNvSpPr/>
            <p:nvPr/>
          </p:nvSpPr>
          <p:spPr>
            <a:xfrm>
              <a:off x="4952880" y="3809880"/>
              <a:ext cx="533520" cy="6098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43400" y="3581280"/>
              <a:ext cx="68580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48320" y="3429000"/>
              <a:ext cx="114300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Arial"/>
                </a:rPr>
                <a:t>200 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828800" y="3581280"/>
            <a:ext cx="5486400" cy="2928960"/>
          </a:xfrm>
          <a:prstGeom prst="rect">
            <a:avLst/>
          </a:prstGeom>
          <a:ln w="0">
            <a:noFill/>
          </a:ln>
        </p:spPr>
      </p:pic>
      <p:pic>
        <p:nvPicPr>
          <p:cNvPr id="77" name="Vue_gene_Subdi_cle531cb6" descr=""/>
          <p:cNvPicPr/>
          <p:nvPr/>
        </p:nvPicPr>
        <p:blipFill>
          <a:blip r:embed="rId3"/>
          <a:stretch/>
        </p:blipFill>
        <p:spPr>
          <a:xfrm>
            <a:off x="762120" y="152280"/>
            <a:ext cx="7848360" cy="3610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60640" y="2268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ance" descr=""/>
          <p:cNvPicPr/>
          <p:nvPr/>
        </p:nvPicPr>
        <p:blipFill>
          <a:blip r:embed="rId2"/>
          <a:stretch/>
        </p:blipFill>
        <p:spPr>
          <a:xfrm>
            <a:off x="423720" y="304920"/>
            <a:ext cx="82947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zone" descr=""/>
          <p:cNvPicPr/>
          <p:nvPr/>
        </p:nvPicPr>
        <p:blipFill>
          <a:blip r:embed="rId2"/>
          <a:stretch/>
        </p:blipFill>
        <p:spPr>
          <a:xfrm>
            <a:off x="-861840" y="271440"/>
            <a:ext cx="10867680" cy="6315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3240" y="6622920"/>
            <a:ext cx="189072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HOM/ contrat E65/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838080"/>
            <a:ext cx="79250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ac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lenary (1 ro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orkgroup (4 rooms conference or round table configur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ifi equipments, projectors and so 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ossibility to have catering there and coffee breaks t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alf a day for an exhibition on port faciliti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alle%201%20sièges%20rouges%202" descr=""/>
          <p:cNvPicPr/>
          <p:nvPr/>
        </p:nvPicPr>
        <p:blipFill>
          <a:blip r:embed="rId2"/>
          <a:stretch/>
        </p:blipFill>
        <p:spPr>
          <a:xfrm>
            <a:off x="12600" y="825480"/>
            <a:ext cx="911880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80" y="6019920"/>
            <a:ext cx="63936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ALLE%20N2" descr=""/>
          <p:cNvPicPr/>
          <p:nvPr/>
        </p:nvPicPr>
        <p:blipFill>
          <a:blip r:embed="rId2"/>
          <a:stretch/>
        </p:blipFill>
        <p:spPr>
          <a:xfrm>
            <a:off x="1138320" y="1476360"/>
            <a:ext cx="6867360" cy="3905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7760" y="5410080"/>
            <a:ext cx="63936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alons%20BCD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8763120" cy="4400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3360" y="5791320"/>
            <a:ext cx="63936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62840" y="5791320"/>
            <a:ext cx="63936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Brest_Quartz1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784872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53352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t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 hotels used for conferences (5 minutes walk from workshop facilit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ail (5 minutes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irport (bus or Tax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g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ty bus or regular bu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nner on a boat in roadstead where some plastic buoys are moo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st day, Trip to Ushant island (atons museum and 6 lighthouses on the island or around the Islan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PB</cp:lastModifiedBy>
  <dcterms:modified xsi:type="dcterms:W3CDTF">2007-04-17T09:48:58Z</dcterms:modified>
  <cp:revision>15</cp:revision>
  <dc:subject/>
  <dc:title>PowerPoint Presentation</dc:title>
</cp:coreProperties>
</file>